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78535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35D-679A-4174-9CD8-FB9C1FD1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20" y="42282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B9F-ABAE-4D75-A045-48C156F0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076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850-2962-45B0-837A-688C4F36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364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52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364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0F3-D9F3-4C91-A18C-BCAC5C7E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6F3-5E0A-4BD5-8C0B-0FED1A7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14E-45EF-4C4F-85BF-0DBF9238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190-11E2-4B48-A25B-9BCCFE1F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52B-2A49-4396-B8FE-BB65582F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520" y="293760"/>
            <a:ext cx="8805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BF0-1E0E-4D78-8DF5-70D73B70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C57-F55B-43A8-8B16-43277FC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076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3F4-DC1F-4CDD-BEEC-B17E13E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B19-5513-4D97-9DC8-F76027B4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49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076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44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8520" y="6660720"/>
            <a:ext cx="228276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2960" y="6660720"/>
            <a:ext cx="309708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660720"/>
            <a:ext cx="228276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675DD4B0-C9C8-4425-9C21-5517DB6DEC1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4"/>
          <p:cNvSpPr/>
          <p:nvPr/>
        </p:nvSpPr>
        <p:spPr>
          <a:xfrm>
            <a:off x="5249880" y="601560"/>
            <a:ext cx="4238640" cy="20952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3"/>
          <p:cNvSpPr/>
          <p:nvPr/>
        </p:nvSpPr>
        <p:spPr>
          <a:xfrm>
            <a:off x="5362560" y="3606840"/>
            <a:ext cx="622440" cy="18720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232240" y="593640"/>
            <a:ext cx="4265640" cy="36828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e loss of souls ...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being engineered ... by easing people into a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eretic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st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429160" y="1262160"/>
            <a:ext cx="38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www.Immaculata-one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732640" y="1569960"/>
            <a:ext cx="32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efending God’s Catholic Dogma ... against the soul damning liar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016600" y="1736640"/>
            <a:ext cx="464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ease reference my site (above).  This booklet is a summary of the s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ch contains ov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30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s and ov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8,40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itations that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129280" y="2117880"/>
            <a:ext cx="4594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The vatican-2 heretic cult (founded on 8 December 1965) ... cannot possibly b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e Catholic Church (founded by Christ in 33 A.D.) &gt; Sections 12 and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There are not 20,000 Christianities ... there is only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&gt;  Sections 1, 2, 8, 8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No 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can get to Heaven in a heretic state or as an un-baptized person ...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n-baptized are in the (theological) pagan state &gt;  Sections 1, 2, 7, and 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Ignorance of the Dogma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is no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a “loophole” ... to Heaven &gt; Sections 5.1, 5.1.1, 5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Dogma on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Automatic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Excommunication for heresy &gt; Sections 13.2 and 13.2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Dogma that the “Gates of Hell” scripture is not about the Papacy &gt; Section 13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Remed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 Formal Abjuration of heresy to become Christian &gt; Section 19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"/>
          <p:cNvPicPr/>
          <p:nvPr/>
        </p:nvPicPr>
        <p:blipFill>
          <a:blip r:embed="rId1"/>
          <a:stretch/>
        </p:blipFill>
        <p:spPr>
          <a:xfrm>
            <a:off x="6730920" y="4078440"/>
            <a:ext cx="1586160" cy="974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9" name="Text Box 21"/>
          <p:cNvSpPr/>
          <p:nvPr/>
        </p:nvSpPr>
        <p:spPr>
          <a:xfrm>
            <a:off x="5075280" y="5037120"/>
            <a:ext cx="47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Left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Wojtyla (a.k.a. “John Paul II”) kissing the “koran” ...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Ctr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Ratzinger (a.k.a. “Benedict XVI”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ghting a menorah ...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Right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Bergoglio (a.k.a. “Francis”) with “church of England” heretic Wel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6611760" y="3776760"/>
            <a:ext cx="142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And much mor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5075280" y="5375160"/>
            <a:ext cx="46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Much mor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photo proof of vatican-2 cult heresy and apostasy ... Sections 12.6.1, 12.6.2, 12.7.1, 12.7.2, 12.10.1, 13, and 13.1 ... working to send people into Hell, confirming them in their erro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5141880" y="5746680"/>
            <a:ext cx="46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writing of Saint Paul in Titus 3:10 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A man that is a heretic ... sinneth, being condemned by his own judgmen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5141880" y="6118200"/>
            <a:ext cx="46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uncil of Florence, Session 8, 22 Nov 1439 -- Ex-Cathedra Dogma &gt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Whoever wills to be saved, before all things it is necessary that he holds the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Catholic faith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. Unless a person keeps this faith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whole and undefile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, without doub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e sha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perish eternall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.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6738840" y="6923160"/>
            <a:ext cx="1005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1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6715080" y="6696000"/>
            <a:ext cx="2911680" cy="1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hone: 772-245-2143   Email: Catholic_Dogma_Providers@mail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5015520" y="561960"/>
            <a:ext cx="27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3"/>
          <p:cNvSpPr/>
          <p:nvPr/>
        </p:nvSpPr>
        <p:spPr>
          <a:xfrm>
            <a:off x="9439920" y="561960"/>
            <a:ext cx="27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2"/>
          <p:cNvGrpSpPr/>
          <p:nvPr/>
        </p:nvGrpSpPr>
        <p:grpSpPr>
          <a:xfrm>
            <a:off x="5745240" y="942840"/>
            <a:ext cx="3236760" cy="349200"/>
            <a:chOff x="5745240" y="942840"/>
            <a:chExt cx="3236760" cy="349200"/>
          </a:xfrm>
        </p:grpSpPr>
        <p:pic>
          <p:nvPicPr>
            <p:cNvPr id="59" name="Picture 13" descr=""/>
            <p:cNvPicPr/>
            <p:nvPr/>
          </p:nvPicPr>
          <p:blipFill>
            <a:blip r:embed="rId2"/>
            <a:stretch/>
          </p:blipFill>
          <p:spPr>
            <a:xfrm>
              <a:off x="574524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8" descr=""/>
            <p:cNvPicPr/>
            <p:nvPr/>
          </p:nvPicPr>
          <p:blipFill>
            <a:blip r:embed="rId3"/>
            <a:stretch/>
          </p:blipFill>
          <p:spPr>
            <a:xfrm>
              <a:off x="721512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9" descr=""/>
            <p:cNvPicPr/>
            <p:nvPr/>
          </p:nvPicPr>
          <p:blipFill>
            <a:blip r:embed="rId4"/>
            <a:stretch/>
          </p:blipFill>
          <p:spPr>
            <a:xfrm>
              <a:off x="868680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40" descr="Bergoglio - 5a"/>
          <p:cNvPicPr/>
          <p:nvPr/>
        </p:nvPicPr>
        <p:blipFill>
          <a:blip r:embed="rId5">
            <a:lum bright="8000"/>
          </a:blip>
          <a:stretch/>
        </p:blipFill>
        <p:spPr>
          <a:xfrm>
            <a:off x="2889360" y="638280"/>
            <a:ext cx="1542960" cy="1060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3" name="Picture 46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438120" y="5268960"/>
            <a:ext cx="1465200" cy="1252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4" name="Picture 47" descr="lutheran 1"/>
          <p:cNvPicPr/>
          <p:nvPr/>
        </p:nvPicPr>
        <p:blipFill>
          <a:blip r:embed="rId7"/>
          <a:stretch/>
        </p:blipFill>
        <p:spPr>
          <a:xfrm>
            <a:off x="2690640" y="5264280"/>
            <a:ext cx="1940040" cy="1257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5" name="Text Box 48"/>
          <p:cNvSpPr/>
          <p:nvPr/>
        </p:nvSpPr>
        <p:spPr>
          <a:xfrm>
            <a:off x="85680" y="95400"/>
            <a:ext cx="46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he vatican-2 cult apostasy ... goes on and on ... all the while claiming to be the Catholic Church ... from inside buildings with Catholic signs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photos &gt;  Sections  12.6.1,  12.6.2,  12.7.1,  12.7.2,  12.10.1,  13,  1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2682720" y="165888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(a.k.a. “Francis”) working for the damnation of un-baptized persons, confirming “jews” in their err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2655720" y="3189240"/>
            <a:ext cx="20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working for the damnation of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stern rite” heretics ... confirming them 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222120" y="3189240"/>
            <a:ext cx="18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working for the damn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f “evangelical” heretics, confi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m 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174600" y="1658880"/>
            <a:ext cx="199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(a.k.a. “Francis”) working for the damnation of un-baptized per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ing “muslims” in their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2630520" y="477684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tzinger (a.k.a. “Benedict XVI”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rking for the damnation of “muslim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ing them in their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63360" y="4776840"/>
            <a:ext cx="22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tzinger working for the damnation of “anglican” heretics. Rowan was form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ult leader of the “church of Englan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338040" y="6499080"/>
            <a:ext cx="166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jtyla (a.k.a. “John Paul II”) at the grave of Gandhi ... working for the damnation of “hindu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2693880" y="6499080"/>
            <a:ext cx="19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jtyla working for the damnation of “lutheran” heretics, confirming the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 rot="16200000">
            <a:off x="-333360" y="5881320"/>
            <a:ext cx="1081080" cy="201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hone:  772-245-214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9"/>
          <p:cNvSpPr/>
          <p:nvPr/>
        </p:nvSpPr>
        <p:spPr>
          <a:xfrm rot="16200000">
            <a:off x="1557360" y="5574960"/>
            <a:ext cx="1679400" cy="21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Catholic_Dogma_Providers@mail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1819440" y="6886440"/>
            <a:ext cx="10522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8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2101680" y="781200"/>
            <a:ext cx="668520" cy="72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Downloa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i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ookle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Appendix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of the si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Item 4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8">
            <a:lum contrast="24000"/>
          </a:blip>
          <a:stretch/>
        </p:blipFill>
        <p:spPr>
          <a:xfrm>
            <a:off x="5116680" y="4075200"/>
            <a:ext cx="1520640" cy="97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36600" y="650880"/>
            <a:ext cx="1668240" cy="1047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0">
            <a:lum contrast="12000"/>
          </a:blip>
          <a:stretch/>
        </p:blipFill>
        <p:spPr>
          <a:xfrm>
            <a:off x="2863800" y="2135160"/>
            <a:ext cx="1594080" cy="1074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399960" y="2154240"/>
            <a:ext cx="1540080" cy="1046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Text Box 59"/>
          <p:cNvSpPr/>
          <p:nvPr/>
        </p:nvSpPr>
        <p:spPr>
          <a:xfrm rot="16200000">
            <a:off x="1339920" y="3084120"/>
            <a:ext cx="2212920" cy="311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e group names in this booklet ... are in “quotes” because they have ... no merit before Go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062680" y="108000"/>
            <a:ext cx="462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1914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 Papacy fell vacant as a result of heresy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Proofs &gt; Sections 20, 20.1, 20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062680" y="324000"/>
            <a:ext cx="4620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1965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 Catholic Church loses all its physical properties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Proofs &gt; Sections 12, 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282600" y="3670200"/>
            <a:ext cx="1774800" cy="1135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8412120" y="4073400"/>
            <a:ext cx="1290600" cy="979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2930400" y="3656160"/>
            <a:ext cx="1460520" cy="1136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Text Box 32"/>
          <p:cNvSpPr/>
          <p:nvPr/>
        </p:nvSpPr>
        <p:spPr>
          <a:xfrm>
            <a:off x="5023080" y="3548160"/>
            <a:ext cx="25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" y="2824200"/>
            <a:ext cx="4305240" cy="2003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059440" y="331560"/>
            <a:ext cx="12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St. Peter (33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inus (67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acletus (76-8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lement I (88-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varistus (97-1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lexander I (105-1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 (115-12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Telesphorus (125-1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yginus (136-1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ius I (140-1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icetus (155-16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oter (166-17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leutherius (175-1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Victor I (189-1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ephyrinus (199-2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allistus I (217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Urban I (222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ontain (230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terus (235-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abian (236-5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ornelius (251-5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ucius I (25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tephen I (254-2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I (257-2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ionysius (260-2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 (269-2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tychian (275-2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aius (283-2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ellinus (296-3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ellus I (308-30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sebius (309 or 31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iltiades (311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ylvester I (314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us (3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Julius I (337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iberius (352-6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amasus I (366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ricius (384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astasius I (399-40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Innocent I (401-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osimus (417-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oniface I (418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elestine I (422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II (432-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 (440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ilarius (461-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mplicius (468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II (II) (483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elasius I (492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nastasius II (496-9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ymmachus (498-5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ormisdas (514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John I (523-2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V (III) (526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I (530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I (533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gapetus I (535-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lverius (536-3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igilius (53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elagius I (556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II (561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 (575-7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elagius II (579-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 (590-6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abinian (604-60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II (60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oniface IV (608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eusdedit (615-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 (619-2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Honorius I” - fell i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heresy see Constantinople II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173640" y="376920"/>
            <a:ext cx="12290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verinus (6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V (640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Theodore I (642-4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tin I (649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gene I (655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Vitalian (65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eodatus (II) (672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Donus (676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gatho (678-8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I (682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enedict II (684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 (685-8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onon (686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ergius I (687-70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 (701-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I (705-0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sinnius (70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onstantine (708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I (715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II (731-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achary (741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I (7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II (752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aul I (757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V (76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I (772-9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II (795-81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 (816-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aschal I (817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Eugene II (824-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alentine (8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IV (827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rgius II (844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V (84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II (855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Nicholas I (858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II (86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II (872-8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inus I (882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drian III (884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 (885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Formosus (891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I (8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I (896-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Romanus (8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Theodore II (8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X (898-90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1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Benedict IV (900-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V (9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0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Sergius III (904-1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nastasius III (911-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2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ando (913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3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John X (914-2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 (92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II (929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 (931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I (936-3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X (939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inus II (942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gapetus II (946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I (955-6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II (963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 (9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II (965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 (973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I (974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V (983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 (985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 (996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ylvester II (999-10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78840" y="376920"/>
            <a:ext cx="140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II (10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III (1003-0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rgius IV (1009-1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II (1012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X (1024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X (1032-45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Appears three times,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he was restored twic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ylvester III (10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X (10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I (1045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I (1046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1.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Benedict IX (1047-104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Damasus II (104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X (1049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ictor II (1055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X (1057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I (1058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II (1061-7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VII (1073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Victor III (1086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Urban II (1088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aschal II (1099-11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2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Gelasius II (1118-1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3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Callistus II (1119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I (1124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I (1130-4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I (1143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ucius II (1144-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Eugene III (1145-5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9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nastasius IV (115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70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drian IV (1154-5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7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lexander III (1159-8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ucius III (1181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III (1185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III (11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II (1187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II (1191-9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II (1198-121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II (1216-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IX (1227-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V (12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V (124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IV (1254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IV (1261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V (1265-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Gregory X (1271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Innocent V (12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V (12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XI (1276-7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II (1277-8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tin IV (1281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V (1285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V (1288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elestine V (129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III (1294-13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Benedict XI (1303-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V (1305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XII (1316-3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I (1334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VI (1342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 (1352-6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essed Urban V (1362-7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 (1370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 (1378-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X (1389-14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I (1404-0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I (1406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tin V (1417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Eugene IV (1431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8440560" y="374400"/>
            <a:ext cx="14241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V (144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allistus III (1455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II (1458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aul II (1464-7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xtus IV (1471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II (1484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 (1492-15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6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III (15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7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Julius II (1503-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X (1513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19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Adrian VI (1522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0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VII (1523-3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aul III (1534-4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Julius III (1550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3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Marcellus II (15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4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aul IV (1555-5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IV (1559-6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ius V (1566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II (1572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xtus V (1585-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I (15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V (1590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Innocent IX (15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VIII (1592-16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3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Leo XI (16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aul V (1605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V (1621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II (1623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 (1644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I (1655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X (1667-6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 (1670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Innocent XI (1676-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II (1689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II (1691-170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 (1700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III (1721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II (1724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I (1730-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V (1740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II (1758-6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0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XIV (1769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ius VI (1775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ius VII (1800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XII (1823-2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VIII (1829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VI (1831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6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IX (1846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7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XIII (1878-19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X (1903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Papacy falls vaca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because of heres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Benedict XV” (1914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Pius XI” (1922-3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Pius XII” (1939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XXIII” (1958-6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Paul VI” (1963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Paul I” (19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Paul II” (1978-20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Benedict XVI” (2005-20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Francis” (2013 -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27920" y="47520"/>
            <a:ext cx="42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he continuity ... of the Catholic Church. List of Popes ... the Papacy fe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vacant by heresy in 1914.   Proofs on Sections 12, 20, 20.1, 20.2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8469360" y="6238800"/>
            <a:ext cx="1209600" cy="819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e vatican-2 heretic cult (founded in 1965) does not have the Office of the Papacy ... only God’s Catholic Church (founded in 33 A.D.) has the Christ established Papac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450120" y="6915240"/>
            <a:ext cx="1414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7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04480" y="135000"/>
            <a:ext cx="4214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o understand the supernatural Ord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(that which pertains to Heaven and Hell, good and evil) ..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one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must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understand Original Sin 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9720" y="768240"/>
            <a:ext cx="47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did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clos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Heaven (temporarily) for all men (see citations below) ..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leaving Hell as the only possible destination for men’s sou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... is generationally transmitted ... human souls are in the same shap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s the material body (Council of Vienne - Decree 1, Council of Florence - Session 8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t is the soul that animates the material bod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is the reason for death, disease, and the loss of integrity among m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God re-opened Heaven in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prescribed way ... believing the Catholic Dog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d being baptized in water to remit Original Sin. He did not re-open Heaven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an-made heresies or by the man-made groups of un-baptized pers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95840" y="2986200"/>
            <a:ext cx="4502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Ecclesiastes 9:3 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This is a very great evil among all things that are done under the sun, that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ame things happen to all me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y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hall b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brought down to Hell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Psalm 88:49 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Who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is the man that shall live, and not see death: that shall deliver his sou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and of He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?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Isaias 5:14 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Hell enlarged her soul ... and their strong ones, and their people, and their hig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d glorious ones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hall go dow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into it.”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re &gt; www.Immaculata-one.com &gt; Sections: Introduction and 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649880" y="2317680"/>
            <a:ext cx="151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~          ~          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1120" y="4898880"/>
            <a:ext cx="48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Note: During Old Testament times ...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descended into two different Sections of Hell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Limbo (Abraham’s bosom) and (2) the Hell of the damned. The souls of the Old Testa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stified people went to Heaven after the Catholic Church was founded in 33 A.D.  The manner b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ch persons were justified in the Old Testament is on Section 138 of the si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649880" y="5486400"/>
            <a:ext cx="151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~          ~          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585360" y="5891040"/>
            <a:ext cx="3629520" cy="703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  enter  the  Catholic  Church ..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hich has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hy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perties in these times ... so that you will have so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ssibility of getting to Heaven ... please proce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s 2.1 and 19.1 of  &gt;  www.Immaculata-on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49320" y="6670800"/>
            <a:ext cx="47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hone &gt;  772-245-2143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 E-mail &gt;  Catholic_Dogma_Providers@mail.com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1676520" y="6934320"/>
            <a:ext cx="1414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6080" y="2689200"/>
            <a:ext cx="2382840" cy="231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Selected  ...  Original  Sin  Script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e Bizzaro</cp:lastModifiedBy>
  <dcterms:modified xsi:type="dcterms:W3CDTF">2015-01-16T23:30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